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E048-0DD8-4333-B0E9-B5CD6732190A}"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4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4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7"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8"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C202-B164-49DA-9AA5-7E06735A74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97B4-634D-416C-8D0A-F47B8089E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7216-FACF-4FF6-9632-1E12F341D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D669-4778-4F73-84ED-9565CA0B7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2B77-D330-4306-A712-04A37ABFB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36C3-3364-4E30-A174-FA87B0B4D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DCB6-7998-4CF4-B54B-78A13B398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5B9D-B27F-482A-8BF9-83E864545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BD50-2DF8-4209-B85F-5F87C8BD5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3ADA-8B69-40E9-AEB4-C112D3B82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97F6-6393-4F47-924D-D65B5AE29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2649-F638-4245-B03B-32028B1BB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7E7A-2B25-4B0E-A6D1-529A08FB7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CB2A-8181-4C8F-9688-77CA48C51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D0F4-0FFB-4A77-8219-A95E25D37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73E0-D541-496F-8268-A9F618B8B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586B-8315-4D2B-AA1A-37026BAB9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E0F29-AD3F-448C-B7C8-F68325CA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E966-5147-465D-941D-94DA0519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7F79E00-E344-41BB-84D2-A37A2F7BB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D8CFECF-A5C1-45F4-BFED-1E3050A28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2E634A9-39B6-4A70-8E07-77EC29652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564D7EA-EEA4-41FB-8A5F-985E783CD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EF35657-32C1-42C7-AB0F-18AFE60C9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F23D862-EB93-4EAC-8B30-F37FF5CF6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9D160AD-5A09-4AB9-80CC-24B22F62A9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C70EB27-3897-4A00-9CF7-A07C538EA8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614404A-C391-4EC7-82B2-84A7AB98AF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5498A6-7D09-4BE3-B0E5-0B00713FCD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A54B4-2F35-40AB-95B1-715A0F3F4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028771-BDF3-4AAD-BA92-7522098DE6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A8B1A0-53FA-4133-A8A7-E187AE459B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CCEDC7-0A31-42B9-B622-A77642DEA3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982D4E-60B6-4BF7-BEED-2E6BDE1776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FA2F77-B359-43A6-863D-55D1EEECF2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DB13F7-D0DA-40B3-A8DF-47CFBDB875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62FE41-9002-4011-81BE-DB0C7E8023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898FB3-E28E-4A8A-9258-78F0446572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5ACF74-967F-4CEC-9E6C-13A3FB088C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E2AC4C-ED57-4C21-8B3D-5A51AF8D6D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839B1-5240-43FE-A873-0A4E22624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77135B-5BF0-4FDE-AEC0-FC8E803185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978A56-FAFB-4A6A-8D51-CE9D9D95E3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24850C-F710-4D90-B571-5FEBC71110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0D9E02-4399-470A-AF4D-78A9697EB4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4EC469-6047-4ADA-B7B2-BA8F0C5399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1E08E1-266E-476F-87E1-E598B88BF4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81955C-E051-4F48-A969-5313318959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A02747-70D0-4FDF-9AE4-F0243DECD6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5FDD31-D2E7-41E9-82A7-0A0C016B1E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451513-DD1F-4D89-BC2B-A43FB101CD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B51E2-C389-452B-A8C1-06930D125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38662F-D4DA-44D0-A60C-8EBC863D2D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F7DE22-3D08-43C3-A512-5D46D8DDEA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920ECE-B16B-48FE-83C8-FC659345C5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8BFEA-DAFD-41CD-8776-D7E6F91E4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1C103-CBB7-44FC-9C85-F63A5DD44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26D19-3F5C-4081-A6FF-A35796A8E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FAEE8-0592-422F-B990-223137E61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2DDD6-D39D-4138-B0F5-C52F925E5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2FF9E-9BE0-4EB5-82DD-A88352E29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06967-59FE-471D-BCC4-E115EA02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5B3E-6DBF-44FA-B0C1-47C62C5DA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82B5F-8198-4EBA-9788-CE74CB30A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05D28-D0B2-4C2A-A99E-45CACA708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4BC50-BD1B-40A6-92A9-269EB3A33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01831-7E10-46C8-93F5-D5B68C263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9A1040-894D-4B49-836A-86336B6DE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AB5DB-4863-4A46-82D0-B8F4867B8B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7084D-91C1-473A-B101-BEAD2F562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DA61F-29E4-4BDF-82BC-6FA7F1015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A10A8-4912-42BE-A64A-02594C345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515AB-52ED-43C6-B1B8-FCE4EC73F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C951F-B5BD-431F-B197-82554197D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A62EA-CB56-4222-A4BF-8A8A2B71C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B3333-CF0A-4432-967E-D88CC26D1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54BCE-111D-45E0-8D96-3EC129BA9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90C3F-16D9-4582-AD32-6622CA416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8ABCAF-9771-4880-BFEF-1B5ECB3206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EF08F-387B-462A-A433-8189776BD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20E29A7-6963-48BE-B848-6CF3C8A4C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17BCB7-D500-4761-89D6-963CC2538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F85EE5-8DE9-4634-8791-403BB842D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8E094-B3CC-429F-9208-837ABB961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4994C2-B2E6-4833-9935-8675594614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DDAA3C-1D4D-48B9-B294-545AEC4D2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DF4317-F9D6-4C81-BA07-AC36B62BB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A9BC9B-C984-4080-9B56-0BDCDB20F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F72DC6-33D8-4BBA-81AC-9A8C7F84C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BB150C-8390-465F-9D8A-FF3E40113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914318-0112-4B40-9E92-BFD01B321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5784049-3646-41B9-830A-3593CE130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2D84B40-E79C-4529-A68D-C8598BC54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C35C6F7-F951-4A0A-A3CA-CB185F1088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9A7E-98E4-437A-8A09-0827C3AA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BF1EEB-BE17-4DB1-ABAD-0BB421FF6B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F166A1-BA1C-4E8A-9EB2-6F2E23EC0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BF799B-AB9C-4E0A-930B-4B8C82776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5E1919-A51A-49AC-9941-45CF26EDD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30835F-B53A-43D3-814D-2F41C3960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CEF5AB-469B-4D1B-A4BE-892832753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8ADB48-EB3F-4D76-AF93-595857E02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C32F4E-30EF-4780-BAF1-D9F40880E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7FB842-5EBC-4E95-8FB2-4A5EBBE8C4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78D19C-1D21-4A6A-9F24-F7B8951810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FE88-1A52-449E-9035-4D9DCEDF2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0BE8573-B409-4255-BAE5-D0C1FD9845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3504F3-22EB-4F12-BB66-36F043F98E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7F381-6ED7-46BA-8F44-4470CD570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EF525-2D23-49E0-A217-584ECE4889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9BF0EC-64A8-42FE-B549-863AAB6D22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5F5599-06F3-494B-BE59-946A05A61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E9F22-248E-4FF7-87FE-07645644C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C8D820-79E6-4D3C-AE7F-57BF2726E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05188-4AE1-4454-97CA-ED75AD96D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E4BD9-2ACB-4985-9A1F-166B425B5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742D-5FF3-442B-BAB1-9755F4DB8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56F34B-6A5F-493B-BE13-A9AFF8A8B0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E21484-04DE-45D0-A1D7-77D3346CA2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649533-9125-4FB2-BEFB-CDCB007039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43E719-EAE4-460E-BFE3-3137C67CB3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8EE855-FD14-4466-B50D-FD071F7B3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5F4F3-D1E2-4DCE-B050-ADFC68C8CB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1D6DF-D80B-40FD-AD14-AD75AEACC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9EA49E-C8B1-4E5C-AD63-04A05DD08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119D4-F78F-49BE-8C89-0D4B7F412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10257-F6F9-4AD1-85CD-412664070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C7A7-611F-450B-A869-22F06865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34110-08C5-4A7E-BB88-740FC02F3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88680-2B91-466A-8628-1AE690302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38D98-853A-4BA1-89C6-61A4216B0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CC3384-B922-49D2-B115-4BE5169CBA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67B1FF-CED9-48D7-B4A8-609335C72F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B9CCDF-FF9F-4CBB-8471-E13D066CF4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675CF6-B87D-4A03-AEEF-6BEE9874CF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BCE934-4742-4BA6-8149-A3306FD27D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DD420-2F27-45FD-B83E-896E771790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99AB2-55DD-414B-AD38-67804B64D5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BDCD-27BE-4AFC-9A77-2F10FAAE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54AF87-77C9-4616-BB35-484FF919B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C499F-92AB-45A8-B3B7-AFDD337EE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8391C-3E9F-4B1E-8A6C-950EC3264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BACAB-5A29-4254-AB47-AC9215172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89609-A2BB-4CA3-A26F-5B81413D44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EEABB1-9698-46AB-9237-C4B134E25C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F41685-C57D-4530-A16B-369DC957E7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3278E27-6250-4CD7-BFBF-AD49E264C5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7CC8C4D-43CB-4CCD-BB4A-58B7DE1B69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D13D862-CA2A-4C59-B0DA-D4827718F0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9DB4-69FB-4BAE-88A1-58391B0471B4}" type="datetime">
              <a:rPr b="0" lang="en-US" sz="1400" spc="-1" strike="noStrike">
                <a:solidFill>
                  <a:srgbClr val="775f55"/>
                </a:solidFill>
                <a:latin typeface="Tw Cen MT"/>
              </a:rPr>
              <a:t>07/31/26</a:t>
            </a:fld>
            <a:r>
              <a:rPr b="0" lang="en-US" sz="1400" spc="-1" strike="noStrike">
                <a:solidFill>
                  <a:srgbClr val="775f55"/>
                </a:solidFill>
                <a:latin typeface="Tw Cen MT"/>
              </a:rPr>
              <a:t> </a:t>
            </a:r>
            <a:fld id="{DC141F2D-EC87-4591-B26E-EF56046C261D}"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3C4C-E806-44D4-9F4B-AE2BD74DEA29}"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99" name="PlaceHolder 3"/>
          <p:cNvSpPr>
            <a:spLocks noGrp="1"/>
          </p:cNvSpPr>
          <p:nvPr>
            <p:ph type="dt" idx="2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1BE7-1AD0-4208-A9C9-54F94826F218}" type="datetime">
              <a:rPr b="0" lang="en-US" sz="1400" spc="-1" strike="noStrike">
                <a:solidFill>
                  <a:srgbClr val="775f55"/>
                </a:solidFill>
                <a:latin typeface="Tw Cen MT"/>
              </a:rPr>
              <a:t>07/31/26</a:t>
            </a:fld>
            <a:r>
              <a:rPr b="0" lang="en-US" sz="1400" spc="-1" strike="noStrike">
                <a:solidFill>
                  <a:srgbClr val="775f55"/>
                </a:solidFill>
                <a:latin typeface="Tw Cen MT"/>
              </a:rPr>
              <a:t> </a:t>
            </a:r>
            <a:fld id="{E5300D47-11D8-4D2E-B180-B69F406406B4}"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400" name="PlaceHolder 4"/>
          <p:cNvSpPr>
            <a:spLocks noGrp="1"/>
          </p:cNvSpPr>
          <p:nvPr>
            <p:ph type="ftr" idx="2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8E88-EE6E-465C-A789-BE5BDEA27902}"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F7D1-4309-48EC-AA09-E69CF762A5A0}" type="datetime">
              <a:rPr b="0" lang="en-US" sz="1400" spc="-1" strike="noStrike">
                <a:solidFill>
                  <a:srgbClr val="775f55"/>
                </a:solidFill>
                <a:latin typeface="Tw Cen MT"/>
              </a:rPr>
              <a:t>07/31/26</a:t>
            </a:fld>
            <a:r>
              <a:rPr b="0" lang="en-US" sz="1400" spc="-1" strike="noStrike">
                <a:solidFill>
                  <a:srgbClr val="775f55"/>
                </a:solidFill>
                <a:latin typeface="Tw Cen MT"/>
              </a:rPr>
              <a:t> </a:t>
            </a:r>
            <a:fld id="{1C2CCDF4-F7F3-479B-8349-628DF99CA187}"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444"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3417-5042-4D61-8854-84BA1F8FE80B}"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2A54-BD52-440C-99FB-256BF867F7A1}" type="datetime">
              <a:rPr b="0" lang="en-US" sz="2000" spc="-1" strike="noStrike">
                <a:solidFill>
                  <a:srgbClr val="ffffff"/>
                </a:solidFill>
                <a:latin typeface="Tw Cen MT"/>
              </a:rPr>
              <a:t>07/31/26</a:t>
            </a:fld>
            <a:r>
              <a:rPr b="0" lang="en-US" sz="2000" spc="-1" strike="noStrike">
                <a:solidFill>
                  <a:srgbClr val="ffffff"/>
                </a:solidFill>
                <a:latin typeface="Tw Cen MT"/>
              </a:rPr>
              <a:t> </a:t>
            </a:r>
            <a:fld id="{CFE2E9C7-468A-464B-B5AA-945E534EE5BA}" type="datetime10">
              <a:rPr b="0" lang="en-US" sz="2000" spc="-1" strike="noStrike">
                <a:solidFill>
                  <a:srgbClr val="ffffff"/>
                </a:solidFill>
                <a:latin typeface="Tw Cen MT"/>
              </a:rPr>
              <a:t>14:4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6CB0-712B-438F-8E58-5781C30489AF}"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50DC-735F-43F6-9D84-0B29DB1CF9E2}" type="datetime">
              <a:rPr b="0" lang="en-US" sz="1400" spc="-1" strike="noStrike">
                <a:solidFill>
                  <a:srgbClr val="775f55"/>
                </a:solidFill>
                <a:latin typeface="Tw Cen MT"/>
              </a:rPr>
              <a:t>07/31/26</a:t>
            </a:fld>
            <a:r>
              <a:rPr b="0" lang="en-US" sz="1400" spc="-1" strike="noStrike">
                <a:solidFill>
                  <a:srgbClr val="775f55"/>
                </a:solidFill>
                <a:latin typeface="Tw Cen MT"/>
              </a:rPr>
              <a:t> </a:t>
            </a:r>
            <a:fld id="{4556480E-3B14-4805-9836-D71DE9223DB1}"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256C-6B7B-49AB-A03E-2F8AB66819A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9048-2968-4AB4-AAD6-A7E93F58B385}" type="datetime">
              <a:rPr b="0" lang="en-US" sz="1400" spc="-1" strike="noStrike">
                <a:solidFill>
                  <a:srgbClr val="775f55"/>
                </a:solidFill>
                <a:latin typeface="Tw Cen MT"/>
              </a:rPr>
              <a:t>07/31/26</a:t>
            </a:fld>
            <a:r>
              <a:rPr b="0" lang="en-US" sz="1400" spc="-1" strike="noStrike">
                <a:solidFill>
                  <a:srgbClr val="775f55"/>
                </a:solidFill>
                <a:latin typeface="Tw Cen MT"/>
              </a:rPr>
              <a:t> </a:t>
            </a:r>
            <a:fld id="{FDD65226-71D0-4558-9E37-6C5BD8A5678A}"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7273-A806-4528-B0ED-4022AEBEAF6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7105-849A-4CCD-BC09-1DE5DF82F9B0}" type="datetime">
              <a:rPr b="0" lang="en-US" sz="1400" spc="-1" strike="noStrike">
                <a:solidFill>
                  <a:srgbClr val="775f55"/>
                </a:solidFill>
                <a:latin typeface="Tw Cen MT"/>
              </a:rPr>
              <a:t>07/31/26</a:t>
            </a:fld>
            <a:r>
              <a:rPr b="0" lang="en-US" sz="1400" spc="-1" strike="noStrike">
                <a:solidFill>
                  <a:srgbClr val="775f55"/>
                </a:solidFill>
                <a:latin typeface="Tw Cen MT"/>
              </a:rPr>
              <a:t> </a:t>
            </a:r>
            <a:fld id="{CDDE8A1D-2DAE-4C0E-AA8D-465BD3A31EDA}"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272F-279F-413E-B0AA-8A06979CD55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96AF-B06C-4053-89E4-C7B452C07DE3}" type="datetime">
              <a:rPr b="0" lang="en-US" sz="1400" spc="-1" strike="noStrike">
                <a:solidFill>
                  <a:srgbClr val="775f55"/>
                </a:solidFill>
                <a:latin typeface="Tw Cen MT"/>
              </a:rPr>
              <a:t>07/31/26</a:t>
            </a:fld>
            <a:r>
              <a:rPr b="0" lang="en-US" sz="1400" spc="-1" strike="noStrike">
                <a:solidFill>
                  <a:srgbClr val="775f55"/>
                </a:solidFill>
                <a:latin typeface="Tw Cen MT"/>
              </a:rPr>
              <a:t> </a:t>
            </a:r>
            <a:fld id="{6784FC5F-5074-4C0E-8BE4-87BBC1B565AC}"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ACDC-2F36-4F9F-8588-B9A2EE56A15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49AD-B542-4C71-BCF7-0FBE1B5E5533}" type="datetime">
              <a:rPr b="0" lang="en-US" sz="1400" spc="-1" strike="noStrike">
                <a:solidFill>
                  <a:srgbClr val="775f55"/>
                </a:solidFill>
                <a:latin typeface="Tw Cen MT"/>
              </a:rPr>
              <a:t>07/31/26</a:t>
            </a:fld>
            <a:r>
              <a:rPr b="0" lang="en-US" sz="1400" spc="-1" strike="noStrike">
                <a:solidFill>
                  <a:srgbClr val="775f55"/>
                </a:solidFill>
                <a:latin typeface="Tw Cen MT"/>
              </a:rPr>
              <a:t> </a:t>
            </a:r>
            <a:fld id="{EEA92C9A-34BF-48AB-99DE-BB7457210FBF}"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1407-D9F8-48B3-8BE8-CA78690EA42E}"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DA39-C589-4D6F-990D-A509C4D9F643}" type="datetime">
              <a:rPr b="0" lang="en-US" sz="1400" spc="-1" strike="noStrike">
                <a:solidFill>
                  <a:srgbClr val="775f55"/>
                </a:solidFill>
                <a:latin typeface="Tw Cen MT"/>
              </a:rPr>
              <a:t>07/31/26</a:t>
            </a:fld>
            <a:r>
              <a:rPr b="0" lang="en-US" sz="1400" spc="-1" strike="noStrike">
                <a:solidFill>
                  <a:srgbClr val="775f55"/>
                </a:solidFill>
                <a:latin typeface="Tw Cen MT"/>
              </a:rPr>
              <a:t> </a:t>
            </a:r>
            <a:fld id="{7302180E-8F79-48E6-AE46-35B83FD095BD}"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7BEF-C70E-4D94-9A1E-1A705E9A720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14BE-4D11-4265-8717-4BF50246A931}" type="datetime">
              <a:rPr b="0" lang="en-US" sz="1400" spc="-1" strike="noStrike">
                <a:solidFill>
                  <a:srgbClr val="775f55"/>
                </a:solidFill>
                <a:latin typeface="Tw Cen MT"/>
              </a:rPr>
              <a:t>07/31/26</a:t>
            </a:fld>
            <a:r>
              <a:rPr b="0" lang="en-US" sz="1400" spc="-1" strike="noStrike">
                <a:solidFill>
                  <a:srgbClr val="775f55"/>
                </a:solidFill>
                <a:latin typeface="Tw Cen MT"/>
              </a:rPr>
              <a:t> </a:t>
            </a:r>
            <a:fld id="{2A7B5424-FF84-484A-A0B9-8974164BF087}" type="datetime10">
              <a:rPr b="0" lang="en-US" sz="1400" spc="-1" strike="noStrike">
                <a:solidFill>
                  <a:srgbClr val="775f55"/>
                </a:solidFill>
                <a:latin typeface="Tw Cen MT"/>
              </a:rPr>
              <a:t>14:43</a:t>
            </a:fld>
            <a:endParaRPr b="0" lang="en-US" sz="1400" spc="-1" strike="noStrike">
              <a:solidFill>
                <a:srgbClr val="000000"/>
              </a:solidFill>
              <a:latin typeface="Times New Roman"/>
            </a:endParaRPr>
          </a:p>
        </p:txBody>
      </p:sp>
      <p:sp>
        <p:nvSpPr>
          <p:cNvPr id="356"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F784-2B9E-40E6-BE88-140CAFEDE445}"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57"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Rectangle 1"/>
          <p:cNvGrpSpPr/>
          <p:nvPr/>
        </p:nvGrpSpPr>
        <p:grpSpPr>
          <a:xfrm>
            <a:off x="298440" y="-42840"/>
            <a:ext cx="8852040" cy="3170160"/>
            <a:chOff x="298440" y="-42840"/>
            <a:chExt cx="8852040" cy="3170160"/>
          </a:xfrm>
        </p:grpSpPr>
        <p:pic>
          <p:nvPicPr>
            <p:cNvPr id="490" name="Rectangle 1" descr=""/>
            <p:cNvPicPr/>
            <p:nvPr/>
          </p:nvPicPr>
          <p:blipFill>
            <a:blip r:embed="rId1"/>
            <a:stretch/>
          </p:blipFill>
          <p:spPr>
            <a:xfrm>
              <a:off x="298440" y="-42840"/>
              <a:ext cx="8852040" cy="3170160"/>
            </a:xfrm>
            <a:prstGeom prst="rect">
              <a:avLst/>
            </a:prstGeom>
            <a:ln w="0">
              <a:noFill/>
            </a:ln>
          </p:spPr>
        </p:pic>
        <p:sp>
          <p:nvSpPr>
            <p:cNvPr id="491" name=""/>
            <p:cNvSpPr/>
            <p:nvPr/>
          </p:nvSpPr>
          <p:spPr>
            <a:xfrm>
              <a:off x="766800" y="397080"/>
              <a:ext cx="79153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bddc3"/>
                  </a:solidFill>
                  <a:latin typeface="Calibri"/>
                </a:rPr>
                <a:t>Федеральное государственное бюджетное образовательное учреждение высшего образования Донбасская аграрная академия.</a:t>
              </a:r>
              <a:br>
                <a:rPr sz="1400"/>
              </a:br>
              <a:br>
                <a:rPr sz="3600"/>
              </a:br>
              <a:br>
                <a:rPr sz="3600"/>
              </a:br>
              <a:endParaRPr b="0" lang="en-US" sz="1800" spc="-1" strike="noStrike">
                <a:solidFill>
                  <a:srgbClr val="000000"/>
                </a:solidFill>
                <a:latin typeface="Arial"/>
              </a:endParaRPr>
            </a:p>
          </p:txBody>
        </p:sp>
      </p:grpSp>
      <p:pic>
        <p:nvPicPr>
          <p:cNvPr id="492" name="Picture 8" descr="C:\Documents and Settings\Mist.DEB-6015B618F20\My Documents\My Pictures\Microsoft Clip Organizer\j0387196.jpg"/>
          <p:cNvPicPr/>
          <p:nvPr/>
        </p:nvPicPr>
        <p:blipFill>
          <a:blip r:embed="rId2"/>
          <a:stretch/>
        </p:blipFill>
        <p:spPr>
          <a:xfrm>
            <a:off x="3456000" y="1779480"/>
            <a:ext cx="6084720" cy="5475240"/>
          </a:xfrm>
          <a:prstGeom prst="rect">
            <a:avLst/>
          </a:prstGeom>
          <a:ln w="0">
            <a:noFill/>
          </a:ln>
        </p:spPr>
      </p:pic>
      <p:sp>
        <p:nvSpPr>
          <p:cNvPr id="493" name="Footer Placeholder 9"/>
          <p:cNvSpPr/>
          <p:nvPr/>
        </p:nvSpPr>
        <p:spPr>
          <a:xfrm>
            <a:off x="2085840" y="236520"/>
            <a:ext cx="5867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4" name=""/>
          <p:cNvGraphicFramePr/>
          <p:nvPr/>
        </p:nvGraphicFramePr>
        <p:xfrm>
          <a:off x="1981080" y="1981080"/>
          <a:ext cx="5334120" cy="2743200"/>
        </p:xfrm>
        <a:graphic>
          <a:graphicData uri="http://schemas.openxmlformats.org/drawingml/2006/table">
            <a:tbl>
              <a:tblPr/>
              <a:tblGrid>
                <a:gridCol w="5334120"/>
              </a:tblGrid>
              <a:tr h="27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2f2f2"/>
                          </a:solidFill>
                          <a:latin typeface="Bookman Old Style"/>
                        </a:rPr>
                        <a:t>Правовая Статистика</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5" name="Text Box 71"/>
          <p:cNvSpPr/>
          <p:nvPr/>
        </p:nvSpPr>
        <p:spPr>
          <a:xfrm>
            <a:off x="3733920" y="60958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еевка - 2020</a:t>
            </a:r>
            <a:endParaRPr b="0" lang="en-US" sz="1200" spc="-1" strike="noStrike">
              <a:solidFill>
                <a:srgbClr val="000000"/>
              </a:solidFill>
              <a:latin typeface="Arial"/>
            </a:endParaRPr>
          </a:p>
        </p:txBody>
      </p:sp>
    </p:spTree>
  </p:cSld>
  <p:transition spd="med"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16AA-2BBE-4CC3-B140-63EA3D6F6B4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23" name="Рисунок 3" descr="image003_61.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FB26-5477-4239-B341-DDBA27E59BD1}"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25"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Статистическая сводка и группировка</a:t>
            </a:r>
            <a:endParaRPr b="0" lang="en-US" sz="1800" spc="-1" strike="noStrike">
              <a:solidFill>
                <a:srgbClr val="775f55"/>
              </a:solidFill>
              <a:latin typeface="Tw Cen MT"/>
            </a:endParaRPr>
          </a:p>
        </p:txBody>
      </p:sp>
      <p:pic>
        <p:nvPicPr>
          <p:cNvPr id="526" name="Picture 21" descr=""/>
          <p:cNvPicPr/>
          <p:nvPr/>
        </p:nvPicPr>
        <p:blipFill>
          <a:blip r:embed="rId1"/>
          <a:stretch/>
        </p:blipFill>
        <p:spPr>
          <a:xfrm>
            <a:off x="5334120" y="3429000"/>
            <a:ext cx="3657600" cy="2610000"/>
          </a:xfrm>
          <a:prstGeom prst="rect">
            <a:avLst/>
          </a:prstGeom>
          <a:ln w="0">
            <a:noFill/>
          </a:ln>
        </p:spPr>
      </p:pic>
      <p:sp>
        <p:nvSpPr>
          <p:cNvPr id="527" name="TextBox 7"/>
          <p:cNvSpPr/>
          <p:nvPr/>
        </p:nvSpPr>
        <p:spPr>
          <a:xfrm>
            <a:off x="533520" y="76212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ое наблюдение дает нам обширный, но разнородный по содержанию материал, характеризующий исследуемое явление. Поэтому на втором (по классической схеме деления) этапе статистического исследования решается задача его сводки. Необходимо помнить, что распределение зарегистрированной совокупности на группы осуществляется с соблюдением определенных правил, следование которым призвано обеспечить достоверность  полученных данных  на текущем этапе статистического исследования. Это означает, что группировка должна опираться на предварительный социально-экономический и правовой анализ изучаемой совокуп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учесть, что в статистике наибольшее распространение получили такие виды группировок как типологические, вариационные (они же структурные) и аналитические. Кроме того, в зависимости от количества признаков, положенных в основу группировки, выделяют простые и сложные группировки. Иногда возникает необходимость построения рядов распределения. </a:t>
            </a:r>
            <a:endParaRPr b="0" lang="en-US" sz="1800" spc="-1" strike="noStrike">
              <a:solidFill>
                <a:srgbClr val="000000"/>
              </a:solidFill>
              <a:latin typeface="Arial"/>
            </a:endParaRPr>
          </a:p>
        </p:txBody>
      </p:sp>
    </p:spTree>
  </p:cSld>
  <p:transition spd="med" advTm="1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068B-614F-4205-97AB-5CA1F6A6F7B9}"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29" name="Picture 21" descr=""/>
          <p:cNvPicPr/>
          <p:nvPr/>
        </p:nvPicPr>
        <p:blipFill>
          <a:blip r:embed="rId1"/>
          <a:stretch/>
        </p:blipFill>
        <p:spPr>
          <a:xfrm>
            <a:off x="5334120" y="3429000"/>
            <a:ext cx="3657600" cy="2610000"/>
          </a:xfrm>
          <a:prstGeom prst="rect">
            <a:avLst/>
          </a:prstGeom>
          <a:ln w="0">
            <a:noFill/>
          </a:ln>
        </p:spPr>
      </p:pic>
      <p:sp>
        <p:nvSpPr>
          <p:cNvPr id="530" name="TextBox 7"/>
          <p:cNvSpPr/>
          <p:nvPr/>
        </p:nvSpPr>
        <p:spPr>
          <a:xfrm>
            <a:off x="533520" y="533520"/>
            <a:ext cx="83055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все осужденные к лишению свободы распределяются на тех, которые ранее отбывали лишение свободы и осуждавшихся ранее к другим видам наказаниям. При проведении группировки неизбежно встает вопрос о числе выделяемых групп и интервалов между ними. Это всегда вопрос факта и его решение зависит от качественной определенности материала, целей исследования и решаемых  задач. Например, по-разному будут выглядеть группировки и интервалы в демографической характеристике осужденных и сроках наказания в виде лишения свобо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вая статистика призвана решать практические задачи. Поэтому применительно к уголовно-правовой статистике принято группировать все преступления по разделам и главам УК РФ, а также в соответствии со статьями внутри глав УК.  Учитывая, что уголовно-правовая статистика охватывает своими показателями личность преступника и меры борьбы с преступностью, группировка по структуре  особенной части УК дает возможность оценить состояние преступности как систему (отдельные элементы структуры преступности и связь между ними), выявить связь между тяжестью совершенного преступления, личностью преступника и мерой наказания, социально-демографические сдвиги в структуре осуждённых и др. Группировки осужденных осуществляются по демографическим признакам - пол, возраст, образование, социальная принадлежность, род занятий и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0FF9-D2DC-4BAA-8276-18540050CB52}"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32" name="Picture 21" descr=""/>
          <p:cNvPicPr/>
          <p:nvPr/>
        </p:nvPicPr>
        <p:blipFill>
          <a:blip r:embed="rId1"/>
          <a:stretch/>
        </p:blipFill>
        <p:spPr>
          <a:xfrm>
            <a:off x="5334120" y="3429000"/>
            <a:ext cx="3657600" cy="2610000"/>
          </a:xfrm>
          <a:prstGeom prst="rect">
            <a:avLst/>
          </a:prstGeom>
          <a:ln w="0">
            <a:noFill/>
          </a:ln>
        </p:spPr>
      </p:pic>
      <p:sp>
        <p:nvSpPr>
          <p:cNvPr id="533" name="TextBox 7"/>
          <p:cNvSpPr/>
          <p:nvPr/>
        </p:nvSpPr>
        <p:spPr>
          <a:xfrm>
            <a:off x="533520" y="53352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ое практическое значение имеет группировка по описательным признакам - место совершения преступления (город, село), отрасль производства, размер ущерба, степень общественной опасности преступления, форма вины, стадия развития преступной деятельности и др. Группировке подлежат и меры уголовно-правового воздействия за совершенные преступ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ультаты сводки и группировки излагаются в удобной для восприятия форме. Общепризнанно, что наиболее приемлемыми являются табличный и графический методы изложения статистического материала. Достоинство табличного способа изложения статистического материала (в отличие от описательного), состоит в его компактности, наглядности, в предопределенности статистических выводов, в целостности восприятия "статистической картины”. Сущность статистической таблицы состоит в совокупности суждений, выраженных не словесно, а с помощью цифр. Подобно грамматическому предложению статистическая таблица состоит из двух элементов: статистического подлежащего и статистического сказуемого. Подлежащее характеризует ту совокупность, о которой идет речь в статистической таблице, например виды преступлений. Сказуемое раскрывает те признаки, которые описывают подлежащее, например количество осужденных по мерам наказания, число оправданных и др. Различают простые, групповые и комбинационные таблицы. </a:t>
            </a:r>
            <a:endParaRPr b="0" lang="en-US" sz="1800" spc="-1" strike="noStrike">
              <a:solidFill>
                <a:srgbClr val="000000"/>
              </a:solidFill>
              <a:latin typeface="Arial"/>
            </a:endParaRPr>
          </a:p>
        </p:txBody>
      </p:sp>
    </p:spTree>
  </p:cSld>
  <p:transition spd="med" advTm="15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687D-447F-43BE-89A1-B1F01893E3D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35" name="Рисунок 3" descr="145557048_329445857.pdf-28.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9733-2009-4AE0-951B-67E7ABDAB12C}"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37"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ea typeface="宋体"/>
              </a:rPr>
              <a:t>Приемы счетной обработки и анализ материалов правовой статистики</a:t>
            </a:r>
            <a:endParaRPr b="0" lang="en-US" sz="1800" spc="-1" strike="noStrike">
              <a:solidFill>
                <a:srgbClr val="775f55"/>
              </a:solidFill>
              <a:latin typeface="Tw Cen MT"/>
            </a:endParaRPr>
          </a:p>
        </p:txBody>
      </p:sp>
      <p:pic>
        <p:nvPicPr>
          <p:cNvPr id="538" name="Picture 21" descr=""/>
          <p:cNvPicPr/>
          <p:nvPr/>
        </p:nvPicPr>
        <p:blipFill>
          <a:blip r:embed="rId1"/>
          <a:stretch/>
        </p:blipFill>
        <p:spPr>
          <a:xfrm>
            <a:off x="5334120" y="3429000"/>
            <a:ext cx="3657600" cy="2610000"/>
          </a:xfrm>
          <a:prstGeom prst="rect">
            <a:avLst/>
          </a:prstGeom>
          <a:ln w="0">
            <a:noFill/>
          </a:ln>
        </p:spPr>
      </p:pic>
      <p:sp>
        <p:nvSpPr>
          <p:cNvPr id="539"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четная обработка и анализ являются заключительной стадией статистического исследования. Важно уяснить, что анализ имеет своей целью изучить статистические показатели, дать им числовое выражение, выявить существующие взаимосвязи и закономерности в развитии гражданских, административных правонарушений и преступности. Поэтому характеристика таких массовых общественных явлений возможна только после их систематизации и обработки специальными приемами и способами, разработанными общей теорией статист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показатели, применяемые при анализе сводных статистических материалов, разделяются на абсолютные величины и обобщающие показатели. Изучая виды абсолютных величин, студент должен хорошо представлять их место в системе статистических показателей, памятуя, что при анализе они имеют самостоятельное значение, поскольку характеризуют объём и размеры  общественных явлений. Среди обобщающих показателей наиболее частое применение находят относительные величины, (к ним можно отнести также индексы) и средние величины, разновидностью которых условно можно назвать моду и медиану. </a:t>
            </a:r>
            <a:endParaRPr b="0" lang="en-US" sz="1800" spc="-1" strike="noStrike">
              <a:solidFill>
                <a:srgbClr val="000000"/>
              </a:solidFill>
              <a:latin typeface="Arial"/>
            </a:endParaRPr>
          </a:p>
        </p:txBody>
      </p:sp>
    </p:spTree>
  </p:cSld>
  <p:transition spd="med" advTm="15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096B-17AD-4714-9C36-A433D27BC9B2}"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41"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ea typeface="宋体"/>
              </a:rPr>
              <a:t>Уголовная статистика и изучение преступности</a:t>
            </a:r>
            <a:endParaRPr b="0" lang="en-US" sz="1800" spc="-1" strike="noStrike">
              <a:solidFill>
                <a:srgbClr val="775f55"/>
              </a:solidFill>
              <a:latin typeface="Tw Cen MT"/>
            </a:endParaRPr>
          </a:p>
        </p:txBody>
      </p:sp>
      <p:pic>
        <p:nvPicPr>
          <p:cNvPr id="542" name="Picture 21" descr=""/>
          <p:cNvPicPr/>
          <p:nvPr/>
        </p:nvPicPr>
        <p:blipFill>
          <a:blip r:embed="rId1"/>
          <a:stretch/>
        </p:blipFill>
        <p:spPr>
          <a:xfrm>
            <a:off x="5334120" y="3429000"/>
            <a:ext cx="3657600" cy="2610000"/>
          </a:xfrm>
          <a:prstGeom prst="rect">
            <a:avLst/>
          </a:prstGeom>
          <a:ln w="0">
            <a:noFill/>
          </a:ln>
        </p:spPr>
      </p:pic>
      <p:sp>
        <p:nvSpPr>
          <p:cNvPr id="543" name="TextBox 7"/>
          <p:cNvSpPr/>
          <p:nvPr/>
        </p:nvSpPr>
        <p:spPr>
          <a:xfrm>
            <a:off x="533520" y="762120"/>
            <a:ext cx="83055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учение преступности по ее показателям (уровень, структура, динамика, причины и условия преступности, личность преступника, предупредительная деятельность органов), не должно ограничиваться констатацией факта ее роста, стабилизации или снижения. Любое изменение в состоянии преступности и ее составляющих должно находить свое социально-правовое объяснение. Такой подход предполагает правильное решение многих криминологических проблем и, в частности, обоснованное планирование мероприятий по предупреждению преступности, что в конечном итоге обещает дать снижение показателей преступности в будущем. Большое значение при этом придается достоверности сведений о преступности в виде соотношения статистически регистрируемой преступности с реально существующей. Студент должен знать от чего зависит это соотношение и как оно может сказаться на показателях преступности в будущем.</a:t>
            </a:r>
            <a:endParaRPr b="0" lang="en-US" sz="1800" spc="-1" strike="noStrike">
              <a:solidFill>
                <a:srgbClr val="000000"/>
              </a:solidFill>
              <a:latin typeface="Arial"/>
            </a:endParaRPr>
          </a:p>
        </p:txBody>
      </p:sp>
    </p:spTree>
  </p:cSld>
  <p:transition spd="med" advTm="15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E91F-EE66-44AA-B6C9-D40E9982D9C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5" name="Рисунок 5" descr="5bdc910a50ccaff8e4f3b66fe1bec607-800x.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7D5D-FA94-40C0-AE40-D477C7F6C50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7" name="Рисунок 3" descr="236612f92b2d21ccb6574884122b160e-800x.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C:\Documents and Settings\Mist.DEB-6015B618F20\My Documents\My Pictures\Microsoft Clip Organizer\j0387196.jpg"/>
          <p:cNvPicPr/>
          <p:nvPr/>
        </p:nvPicPr>
        <p:blipFill>
          <a:blip r:embed="rId1">
            <a:lum contrast="6000"/>
          </a:blip>
          <a:srcRect l="0" t="-7905" r="8801" b="-3314"/>
          <a:stretch/>
        </p:blipFill>
        <p:spPr>
          <a:xfrm>
            <a:off x="3459240" y="990720"/>
            <a:ext cx="5684760" cy="6024600"/>
          </a:xfrm>
          <a:prstGeom prst="rect">
            <a:avLst/>
          </a:prstGeom>
          <a:ln w="0">
            <a:noFill/>
          </a:ln>
        </p:spPr>
      </p:pic>
      <p:pic>
        <p:nvPicPr>
          <p:cNvPr id="549" name="Рисунок 3" descr="b53a1dac00116246950fbbae6aaf72bb.jpg"/>
          <p:cNvPicPr/>
          <p:nvPr/>
        </p:nvPicPr>
        <p:blipFill>
          <a:blip r:embed="rId2"/>
          <a:stretch/>
        </p:blipFill>
        <p:spPr>
          <a:xfrm>
            <a:off x="1719360" y="1292400"/>
            <a:ext cx="5529240" cy="4144680"/>
          </a:xfrm>
          <a:prstGeom prst="rect">
            <a:avLst/>
          </a:prstGeom>
          <a:ln w="0">
            <a:noFill/>
          </a:ln>
        </p:spPr>
      </p:pic>
    </p:spTree>
  </p:cSld>
  <p:transition spd="med" advTm="5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3D6E-F00B-459B-A68E-E2214A88AA3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75f55"/>
                </a:solidFill>
                <a:latin typeface="Calibri"/>
                <a:ea typeface="宋体"/>
              </a:rPr>
              <a:t>Содержание учебного материала</a:t>
            </a:r>
            <a:endParaRPr b="0" lang="en-US" sz="4400" spc="-1" strike="noStrike">
              <a:solidFill>
                <a:srgbClr val="775f55"/>
              </a:solidFill>
              <a:latin typeface="Tw Cen MT"/>
            </a:endParaRPr>
          </a:p>
        </p:txBody>
      </p:sp>
      <p:sp>
        <p:nvSpPr>
          <p:cNvPr id="4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1. Предмет, метод и отрасли статистической наук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2. Правовая статистика – подотрасль науки статистики, ее предмет, задачи и значение в укреплении законност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3. Статистическое наблюдение</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4. Статистическая сводка и группировка</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5. Приемы счетной обработки и анализ материалов правовой статистик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6. Уголовная статистика и изучение преступности</a:t>
            </a:r>
            <a:endParaRPr b="0" lang="en-US" sz="2400" spc="-1" strike="noStrike">
              <a:solidFill>
                <a:srgbClr val="000000"/>
              </a:solidFill>
              <a:latin typeface="Tw Cen MT"/>
            </a:endParaRPr>
          </a:p>
        </p:txBody>
      </p:sp>
    </p:spTree>
  </p:cSld>
  <p:transition spd="med" advTm="10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5CC3-50F0-444A-AF7D-A0907C52FF38}"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00" name="PlaceHolder 1"/>
          <p:cNvSpPr>
            <a:spLocks noGrp="1"/>
          </p:cNvSpPr>
          <p:nvPr>
            <p:ph type="title"/>
          </p:nvPr>
        </p:nvSpPr>
        <p:spPr>
          <a:xfrm>
            <a:off x="609120" y="152280"/>
            <a:ext cx="8153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Предмет, метод и отрасли статистической науки</a:t>
            </a:r>
            <a:endParaRPr b="0" lang="en-US" sz="1800" spc="-1" strike="noStrike">
              <a:solidFill>
                <a:srgbClr val="775f55"/>
              </a:solidFill>
              <a:latin typeface="Tw Cen MT"/>
            </a:endParaRPr>
          </a:p>
        </p:txBody>
      </p:sp>
      <p:pic>
        <p:nvPicPr>
          <p:cNvPr id="501" name="Picture 21" descr=""/>
          <p:cNvPicPr/>
          <p:nvPr/>
        </p:nvPicPr>
        <p:blipFill>
          <a:blip r:embed="rId1"/>
          <a:stretch/>
        </p:blipFill>
        <p:spPr>
          <a:xfrm>
            <a:off x="5334120" y="3429000"/>
            <a:ext cx="3657600" cy="2610000"/>
          </a:xfrm>
          <a:prstGeom prst="rect">
            <a:avLst/>
          </a:prstGeom>
          <a:ln w="0">
            <a:noFill/>
          </a:ln>
        </p:spPr>
      </p:pic>
      <p:sp>
        <p:nvSpPr>
          <p:cNvPr id="502" name="TextBox 7"/>
          <p:cNvSpPr/>
          <p:nvPr/>
        </p:nvSpPr>
        <p:spPr>
          <a:xfrm>
            <a:off x="533520" y="838080"/>
            <a:ext cx="83055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зучении темы необходимо уяснить, что статистика, как и любая самостоятельная научная дисциплина, имеет свой предмет исследования. Статистика наука общественная и исследует количественную сторону социально-экономических процессов и явлений в единстве с их качественной определенностью применительно к конкретным условиям места и вре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ужно подробно остановиться на анализе составных элементов  понятия предмета статистической науки, таких как количество, качество, статистическая закономерность в развитии изучаемых явлений, вариация и варьирующие признаки.  Будучи общественной наукой статистика, сама играет активную роль  в превращении других общественных наук  из описательных в точные. Поэтому, разобравшись в теоретической основе статистики, студент должен уяснить её связь с другими общественными науками, в том числе  и правовым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одологической основой статистики являются  диалектический и исторический материализм. Такие основные законы диалектики как соотношение случайного и необходимого, единичного и общего, переход количества в качество, взаимосвязь явлений и др. помогают понять природу явления и механизм  его развития.  Статистика использует  и свои, только ей присущие методы - это статистическое наблюдение, сводка и группировка материалов, счетная обработка и анализ материалов статисти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210B-9BC4-4B32-8752-36D3BE2C025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0" y="0"/>
            <a:ext cx="9144000" cy="6858000"/>
          </a:xfrm>
          <a:prstGeom prst="rect">
            <a:avLst/>
          </a:prstGeom>
          <a:noFill/>
          <a:ln w="0">
            <a:noFill/>
          </a:ln>
        </p:spPr>
        <p:txBody>
          <a:bodyPr anchor="t">
            <a:normAutofit/>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Предмет статистики</a:t>
            </a:r>
            <a:r>
              <a:rPr b="0" lang="ru-RU" sz="2000" spc="-1" strike="noStrike">
                <a:solidFill>
                  <a:srgbClr val="000000"/>
                </a:solidFill>
                <a:latin typeface="Calibri"/>
              </a:rPr>
              <a:t> - это количественные характеристики интересую­щих исследователя массовых явлений и процессов с целью выявления их каче­ственного своеобразия и скрытых закономерностей</a:t>
            </a:r>
            <a:r>
              <a:rPr b="0" lang="ru-RU" sz="2000" spc="-1" strike="noStrike">
                <a:solidFill>
                  <a:srgbClr val="000000"/>
                </a:solidFill>
                <a:latin typeface="Calibri"/>
                <a:ea typeface="宋体"/>
              </a:rPr>
              <a:t>.</a:t>
            </a:r>
            <a:endParaRPr b="0" lang="en-US" sz="20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Метод статистики</a:t>
            </a:r>
            <a:r>
              <a:rPr b="0" lang="ru-RU" sz="2000" spc="-1" strike="noStrike">
                <a:solidFill>
                  <a:srgbClr val="000000"/>
                </a:solidFill>
                <a:latin typeface="Calibri"/>
              </a:rPr>
              <a:t> — это совокупность специфических приемов и способов изучения массовых явлений, основными из которых являются: метод статисти­ческого наблюдения; метод статистической сводки и группировки; метод выве­дения обобщающих показателей; метод статистического анализа.</a:t>
            </a:r>
            <a:endParaRPr b="0" lang="en-US" sz="20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ea typeface="宋体"/>
              </a:rPr>
              <a:t>Отрасли статистической науки</a:t>
            </a:r>
            <a:endParaRPr b="0" lang="en-US" sz="20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pic>
        <p:nvPicPr>
          <p:cNvPr id="505" name="Рисунок 5" descr="9325811_437030475.pdf-4.jpg"/>
          <p:cNvPicPr/>
          <p:nvPr/>
        </p:nvPicPr>
        <p:blipFill>
          <a:blip r:embed="rId1"/>
          <a:stretch/>
        </p:blipFill>
        <p:spPr>
          <a:xfrm>
            <a:off x="1066680" y="3124080"/>
            <a:ext cx="7162920" cy="3733920"/>
          </a:xfrm>
          <a:prstGeom prst="rect">
            <a:avLst/>
          </a:prstGeom>
          <a:ln w="0">
            <a:noFill/>
          </a:ln>
        </p:spPr>
      </p:pic>
    </p:spTree>
  </p:cSld>
  <p:transition spd="med" advTm="1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689F-3BEF-4976-AD1B-84C8BDE1CC5B}"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0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Правовая статистика – подотрасль науки статистики, её предмет, задачи и значение в укреплении законности</a:t>
            </a:r>
            <a:endParaRPr b="0" lang="en-US" sz="1800" spc="-1" strike="noStrike">
              <a:solidFill>
                <a:srgbClr val="775f55"/>
              </a:solidFill>
              <a:latin typeface="Tw Cen MT"/>
            </a:endParaRPr>
          </a:p>
        </p:txBody>
      </p:sp>
      <p:pic>
        <p:nvPicPr>
          <p:cNvPr id="508" name="Picture 21" descr=""/>
          <p:cNvPicPr/>
          <p:nvPr/>
        </p:nvPicPr>
        <p:blipFill>
          <a:blip r:embed="rId1"/>
          <a:stretch/>
        </p:blipFill>
        <p:spPr>
          <a:xfrm>
            <a:off x="5334120" y="3429000"/>
            <a:ext cx="3657600" cy="2610000"/>
          </a:xfrm>
          <a:prstGeom prst="rect">
            <a:avLst/>
          </a:prstGeom>
          <a:ln w="0">
            <a:noFill/>
          </a:ln>
        </p:spPr>
      </p:pic>
      <p:sp>
        <p:nvSpPr>
          <p:cNvPr id="509" name="TextBox 7"/>
          <p:cNvSpPr/>
          <p:nvPr/>
        </p:nvSpPr>
        <p:spPr>
          <a:xfrm>
            <a:off x="533520" y="129528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ступая к рассмотрению темы необходимо уяснить понятие учета и роль учета и статистики в обществе, в социально-экономическом развитии страны. Статистика неразрывно связана с планированием финансово-хозяйственного развития страны и является составной частью  системы учета и контроля за выполнением  принятых решений. Надо различать бухгалтерский, оперативный учет, другие виды учета и статистику. Студент должен ознакомиться с организацией статистики в стране  и задачами, стоящими перед органами  государственной статист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яснение отправных положений следует начинать  с понятия правовой статистики как одной из отраслей статистической науки, её предмета, задач и практической значимости. Особо следует подчеркнуть, что правовая статистика изучает  количественную сторону исследуемых правовых явлений в единстве с их качественной определенностью. В правовой статистике выделяют три её отрасли - уголовно-правовую, гражданско-правовую и административно-правовую. Помимо отраслевых статистик можно выделить ведомственные статистики, исходя из характера решаемых ведомствами задач. Здесь следует говорить о статистике органов предварительного расследования, статистике прокуратуры, судов (судебная статистика), органов исполнения наказаний и решений судов и т.д.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443F-23BC-4D60-B7A9-9CA5EFDD56B7}"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11" name="Picture 21" descr=""/>
          <p:cNvPicPr/>
          <p:nvPr/>
        </p:nvPicPr>
        <p:blipFill>
          <a:blip r:embed="rId1"/>
          <a:stretch/>
        </p:blipFill>
        <p:spPr>
          <a:xfrm>
            <a:off x="5334120" y="3429000"/>
            <a:ext cx="3657600" cy="2610000"/>
          </a:xfrm>
          <a:prstGeom prst="rect">
            <a:avLst/>
          </a:prstGeom>
          <a:ln w="0">
            <a:noFill/>
          </a:ln>
        </p:spPr>
      </p:pic>
      <p:sp>
        <p:nvSpPr>
          <p:cNvPr id="512" name="TextBox 7"/>
          <p:cNvSpPr/>
          <p:nvPr/>
        </p:nvSpPr>
        <p:spPr>
          <a:xfrm>
            <a:off x="609480" y="45720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обходимо уяснить, что с помощью своих специфических методов уголовно-правовая статистика  изучает состояние преступности, личность преступника, причины и условия преступности, а также деятельность органов дознания, предварительного следствия и суда по расследованию и рассмотрению уголовных дел. Причем уголовно-правовая статистика изучает количественную сторону лишь тех преступлений, которые были выявлены, и по которым проводилось дознание, предварительное расследование и судебное разбирательство, включая апелляционную, кассационную и надзорную инстан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ами изучения гражданско-правовой статистики являются споры о праве гражданском, истец и ответчик, споры, вытекающие из административно-правовых отношений, искового и особого производства, а также деятельность судов по их разрешению. Гражданско-правовая статистика также ограничивает объём всего  исследования лишь теми деликтами, которые явились предметом рассмотрения в суде, арбитражном суде и нотариате. Объектом административно-правовой статистики является количественная сторона административных правонарушений и мер административного воздействия за их совершение.</a:t>
            </a:r>
            <a:endParaRPr b="0" lang="en-US" sz="1800" spc="-1" strike="noStrike">
              <a:solidFill>
                <a:srgbClr val="000000"/>
              </a:solidFill>
              <a:latin typeface="Arial"/>
            </a:endParaRPr>
          </a:p>
        </p:txBody>
      </p:sp>
    </p:spTree>
  </p:cSld>
  <p:transition spd="med" advTm="15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C822-B977-4546-ACBB-861E39E841C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0" y="304560"/>
            <a:ext cx="9144000" cy="6553080"/>
          </a:xfrm>
          <a:prstGeom prst="rect">
            <a:avLst/>
          </a:prstGeom>
          <a:noFill/>
          <a:ln w="0">
            <a:noFill/>
          </a:ln>
        </p:spPr>
        <p:txBody>
          <a:bodyPr anchor="t">
            <a:normAutofit/>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Предметом правовой статистики </a:t>
            </a:r>
            <a:r>
              <a:rPr b="0" lang="ru-RU" sz="1800" spc="-1" strike="noStrike">
                <a:solidFill>
                  <a:srgbClr val="000000"/>
                </a:solidFill>
                <a:latin typeface="Calibri"/>
              </a:rPr>
              <a:t>служит количественная сторона массовых правовых явлений и процессов, тенденции и закономерности их развития в конкретных условиях места и времени в целях раскрытия их качественного содержания.</a:t>
            </a:r>
            <a:endParaRPr b="0" lang="en-US" sz="1800" spc="-1" strike="noStrike">
              <a:solidFill>
                <a:srgbClr val="000000"/>
              </a:solidFill>
              <a:latin typeface="Tw Cen MT"/>
            </a:endParaRPr>
          </a:p>
          <a:p>
            <a:pPr marL="31896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Задачи правовой статистик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чет, обобщение и комплексный анализ нарушений законности, рассматриваемых правоохранительными органами и органами юстици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зучение состояния, структуры и динамики преступности и иных видов правонарушений;</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зучение факторов, способствующих возникновению и развитию преступности и иных правонарушений;</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сследование социальных последствий преступности и других правонарушений для общества;</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чет всей совокупности мероприятий социального контроля над правонарушениями, осуществляемыми государственными органами в целях поддержания в стране режима законност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гарантирование достоверности, полноты, своевременности и научной обоснованности всей официальной правовой статистической информации.</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advTm="10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22B6-40EE-4193-B789-57280A77A70B}"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16"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Статистическое наблюдение</a:t>
            </a:r>
            <a:endParaRPr b="0" lang="en-US" sz="1800" spc="-1" strike="noStrike">
              <a:solidFill>
                <a:srgbClr val="775f55"/>
              </a:solidFill>
              <a:latin typeface="Tw Cen MT"/>
            </a:endParaRPr>
          </a:p>
        </p:txBody>
      </p:sp>
      <p:pic>
        <p:nvPicPr>
          <p:cNvPr id="517" name="Picture 21" descr=""/>
          <p:cNvPicPr/>
          <p:nvPr/>
        </p:nvPicPr>
        <p:blipFill>
          <a:blip r:embed="rId1"/>
          <a:stretch/>
        </p:blipFill>
        <p:spPr>
          <a:xfrm>
            <a:off x="5334120" y="3429000"/>
            <a:ext cx="3657600" cy="2610000"/>
          </a:xfrm>
          <a:prstGeom prst="rect">
            <a:avLst/>
          </a:prstGeom>
          <a:ln w="0">
            <a:noFill/>
          </a:ln>
        </p:spPr>
      </p:pic>
      <p:sp>
        <p:nvSpPr>
          <p:cNvPr id="518"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изуя сущность статистического наблюдения надо исходить из того, что это планомерный, научно организованный сбор данных о правовых явлениях общественной жизни с фиксацией их в заранее  разработанных программах. Наукой и практикой разработаны специальные правила составления программы статистического наблюдения, которые должны быть твердо усвоены обучающимся. Все этапы статистического исследования находятся в единстве и взаимосвязи, поскольку каждый последующий этап не может существовать без предыдущего, и реализация их всех подчинена единой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бор статистической информации протекает в двух организационных формах: статистическая отчетность предприятии, учреждений и организации и специально организованное обследование. Статистическая отчетность является основной формой статистического наблюдения. В отличие от неё специально организованное обследование преследует цели, которые не могут быть достигнуты в рамках статистической отчетности либо для проверки правильности и качества представленной отчетнос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4230-12BC-4512-99F1-8C053FCA9A92}"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20" name="Picture 21" descr=""/>
          <p:cNvPicPr/>
          <p:nvPr/>
        </p:nvPicPr>
        <p:blipFill>
          <a:blip r:embed="rId1"/>
          <a:stretch/>
        </p:blipFill>
        <p:spPr>
          <a:xfrm>
            <a:off x="5334120" y="3429000"/>
            <a:ext cx="3657600" cy="2610000"/>
          </a:xfrm>
          <a:prstGeom prst="rect">
            <a:avLst/>
          </a:prstGeom>
          <a:ln w="0">
            <a:noFill/>
          </a:ln>
        </p:spPr>
      </p:pic>
      <p:sp>
        <p:nvSpPr>
          <p:cNvPr id="521"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 необходимо усвоить классификацию форм и видов статистического наблюдения. По формам статистического наблюдения различают отчетность и специально организованное статистическое наблюдение. По полноте охвата единиц совокупности статистическое наблюдение бывает сплошным и не сплошным. К не сплошным видам наблюдения относятся выборочное, обследование основного массива, анкетное и монографическое. По способам получения информации различается непосредственное наблюдение, документальный способ и опрос. По фактору времени наблюдение бывает непрерывным, периодическим и единовременным. Выбор конкретных форм, видов и способов статистического наблюдения обусловлен особенностями объекта, целями и задачами статистического исследования. Особое внимание следует обратить на изучение основных форм статистической отчетности МВД, суда и прокуратуры: о расследовании  преступлений, о работе суда первой инстанции по рассмотрению уголовных и гражданских дел, о работе судов по рассмотрению уголовных дел в апелляционном, кассационном и надзорном порядке и др.</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1:40:00Z</dcterms:created>
  <dc:creator/>
  <dc:description/>
  <dc:language>en-US</dc:language>
  <cp:lastModifiedBy/>
  <dcterms:modified xsi:type="dcterms:W3CDTF">2023-11-20T10:20:56Z</dcterms:modified>
  <cp:revision>1</cp:revision>
  <dc:subject/>
  <dc:title>LLP Powerpoint Templ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9181033</vt:lpwstr>
  </property>
</Properties>
</file>